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up202.wav" ContentType="audio/x-wav"/>
  <Override PartName="/ppt/media/planeflyby.wav" ContentType="audio/x-wav"/>
  <Override PartName="/ppt/media/jetflyby2.wav" ContentType="audio/x-wav"/>
  <Override PartName="/ppt/media/peopleooo.wav" ContentType="audio/x-wav"/>
  <Override PartName="/ppt/media/carbrake.wav" ContentType="audio/x-wav"/>
  <Override PartName="/ppt/media/jetflyby.wav" ContentType="audio/x-wav"/>
  <Override PartName="/ppt/media/zipby102.wav" ContentType="audio/x-wav"/>
  <Override PartName="/ppt/media/gunshot.wav" ContentType="audio/x-wav"/>
  <Override PartName="/ppt/media/ricochet.wav" ContentType="audio/x-wav"/>
  <Override PartName="/ppt/media/cool%20man.wav" ContentType="audio/x-wav"/>
  <Override PartName="/ppt/media/highchime.wav" ContentType="audio/x-wav"/>
  <Override PartName="/ppt/media/boinng04.wav" ContentType="audio/x-wav"/>
  <Override PartName="/ppt/media/lzipup01.wav" ContentType="audio/x-wav"/>
  <Override PartName="/ppt/media/byipee04.wav" ContentType="audio/x-wav"/>
  <Override PartName="/ppt/media/projctor.wav" ContentType="audio/x-wav"/>
  <Override PartName="/ppt/media/zapvib04.wav" ContentType="audio/x-wav"/>
  <Override PartName="/ppt/media/zipdn102.wav" ContentType="audio/x-wav"/>
  <Override PartName="/ppt/media/glass.wav" ContentType="audio/x-wav"/>
  <Override PartName="/ppt/media/kisbig07.wav" ContentType="audio/x-wav"/>
  <Override PartName="/ppt/media/driveby.wav" ContentType="audio/x-wav"/>
  <Override PartName="/ppt/media/zapbig0g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521-8CBF-4B70-B839-44CA0878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283-02CD-4EA1-94B7-4BE254E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8C8-2A61-4C9C-A5F3-4DE14A2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AB0-35E3-4A97-9E3D-4A4D1353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2D6-8EC3-4254-8B28-5FEB999E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A48-AB24-4CA5-8BAC-458ED0E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D3C-2AE5-4F32-91DF-B935FC4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526-ABB5-44FA-8E2C-D17B2F2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A7A-C855-4CC2-BF68-F6574B65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851-40EB-44E5-9818-40E357D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EA8-85D1-43E6-A85D-A64239C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1C9-1F7B-4100-935B-862264C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470A-4298-45A1-9B13-D15B34DF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jetflyby.wav"/><Relationship Id="rId15" Type="http://schemas.openxmlformats.org/officeDocument/2006/relationships/audio" Target="../media/gunshot.wav"/><Relationship Id="rId16" Type="http://schemas.openxmlformats.org/officeDocument/2006/relationships/audio" Target="../media/ricochet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carbrake.wav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peopleooo.wav"/><Relationship Id="rId17" Type="http://schemas.openxmlformats.org/officeDocument/2006/relationships/audio" Target="../media/peopleooo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laser.wav"/><Relationship Id="rId21" Type="http://schemas.openxmlformats.org/officeDocument/2006/relationships/audio" Target="../media/zapbig0g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driveby.wav"/><Relationship Id="rId25" Type="http://schemas.openxmlformats.org/officeDocument/2006/relationships/audio" Target="../media/boinng04.wav"/><Relationship Id="rId26" Type="http://schemas.openxmlformats.org/officeDocument/2006/relationships/audio" Target="../media/kisbig07.wav"/><Relationship Id="rId27" Type="http://schemas.openxmlformats.org/officeDocument/2006/relationships/audio" Target="../media/boinng04.wav"/><Relationship Id="rId28" Type="http://schemas.openxmlformats.org/officeDocument/2006/relationships/audio" Target="../media/boinng04.wav"/><Relationship Id="rId29" Type="http://schemas.openxmlformats.org/officeDocument/2006/relationships/audio" Target="../media/boinng04.wav"/><Relationship Id="rId30" Type="http://schemas.openxmlformats.org/officeDocument/2006/relationships/audio" Target="../media/boinng04.wav"/><Relationship Id="rId31" Type="http://schemas.openxmlformats.org/officeDocument/2006/relationships/audio" Target="../media/lzipup01.wav"/><Relationship Id="rId32" Type="http://schemas.openxmlformats.org/officeDocument/2006/relationships/audio" Target="../media/boinng04.wav"/><Relationship Id="rId33" Type="http://schemas.openxmlformats.org/officeDocument/2006/relationships/audio" Target="../media/kisbig07.wav"/><Relationship Id="rId34" Type="http://schemas.openxmlformats.org/officeDocument/2006/relationships/audio" Target="../media/byipee04.wav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jetflyby.wav"/><Relationship Id="rId15" Type="http://schemas.openxmlformats.org/officeDocument/2006/relationships/audio" Target="../media/gunshot.wav"/><Relationship Id="rId16" Type="http://schemas.openxmlformats.org/officeDocument/2006/relationships/audio" Target="../media/ricochet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carbrake.wav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apbig0g.wav"/><Relationship Id="rId10" Type="http://schemas.openxmlformats.org/officeDocument/2006/relationships/audio" Target="../media/carbrake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gunshot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peopleooo.wav"/><Relationship Id="rId23" Type="http://schemas.openxmlformats.org/officeDocument/2006/relationships/audio" Target="../media/peopleooo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laser.wav"/><Relationship Id="rId27" Type="http://schemas.openxmlformats.org/officeDocument/2006/relationships/audio" Target="../media/zapbig0g.wav"/><Relationship Id="rId28" Type="http://schemas.openxmlformats.org/officeDocument/2006/relationships/audio" Target="../media/zipdn102.wav"/><Relationship Id="rId29" Type="http://schemas.openxmlformats.org/officeDocument/2006/relationships/audio" Target="../media/zipdn102.wav"/><Relationship Id="rId30" Type="http://schemas.openxmlformats.org/officeDocument/2006/relationships/audio" Target="../media/driveby.wav"/><Relationship Id="rId31" Type="http://schemas.openxmlformats.org/officeDocument/2006/relationships/audio" Target="../media/boinng04.wav"/><Relationship Id="rId32" Type="http://schemas.openxmlformats.org/officeDocument/2006/relationships/audio" Target="../media/kisbig07.wav"/><Relationship Id="rId33" Type="http://schemas.openxmlformats.org/officeDocument/2006/relationships/audio" Target="../media/gunshot.wav"/><Relationship Id="rId34" Type="http://schemas.openxmlformats.org/officeDocument/2006/relationships/audio" Target="../media/laser.wav"/><Relationship Id="rId35" Type="http://schemas.openxmlformats.org/officeDocument/2006/relationships/audio" Target="../media/gunshot.wav"/><Relationship Id="rId36" Type="http://schemas.openxmlformats.org/officeDocument/2006/relationships/audio" Target="../media/laser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cool%20man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981080"/>
                <a:ext cx="32400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541920" y="5578560"/>
                <a:ext cx="1341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715000" y="1844640"/>
                <a:ext cx="228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791320" y="245412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7162920" y="245412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5410080" y="306396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715000" y="321624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705720" y="36734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51760" y="2453400"/>
            <a:ext cx="5410800" cy="1719000"/>
            <a:chOff x="1751760" y="2453400"/>
            <a:chExt cx="5410800" cy="1719000"/>
          </a:xfrm>
        </p:grpSpPr>
        <p:cxnSp>
          <p:nvCxnSpPr>
            <p:cNvPr id="51" name=""/>
            <p:cNvCxnSpPr/>
            <p:nvPr/>
          </p:nvCxnSpPr>
          <p:spPr>
            <a:xfrm flipV="1" rot="16200000">
              <a:off x="3954240" y="250920"/>
              <a:ext cx="1006200" cy="5411160"/>
            </a:xfrm>
            <a:prstGeom prst="curvedConnector5">
              <a:avLst>
                <a:gd name="adj1" fmla="val -70901"/>
                <a:gd name="adj2" fmla="val 50000"/>
                <a:gd name="adj3" fmla="val -7090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3348360" y="353592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4920" y="3962520"/>
                <a:ext cx="41544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40543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466416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98480" y="466416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4648320"/>
                <a:ext cx="1687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22600" y="5121360"/>
                <a:ext cx="1047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05320" y="5105520"/>
                <a:ext cx="1049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85800" y="573084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9680" y="5708520"/>
                <a:ext cx="11401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29080" y="5686560"/>
                <a:ext cx="11858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347920" y="631836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38280" y="621828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643200" y="631836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09880" y="6219720"/>
                <a:ext cx="820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5800" y="603576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43000" y="5883120"/>
                <a:ext cx="779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638680" y="4054320"/>
                <a:ext cx="3205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413480" y="4130640"/>
                <a:ext cx="320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638680" y="4816440"/>
                <a:ext cx="2289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986600" y="4816440"/>
                <a:ext cx="868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3733560" y="2211120"/>
            <a:ext cx="1904760" cy="1236240"/>
            <a:chOff x="3733560" y="2211120"/>
            <a:chExt cx="1904760" cy="1236240"/>
          </a:xfrm>
        </p:grpSpPr>
        <p:sp>
          <p:nvSpPr>
            <p:cNvPr id="74" name=""/>
            <p:cNvSpPr/>
            <p:nvPr/>
          </p:nvSpPr>
          <p:spPr>
            <a:xfrm>
              <a:off x="3885840" y="2987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/>
            <p:nvPr/>
          </p:nvCxnSpPr>
          <p:spPr>
            <a:xfrm flipV="1">
              <a:off x="3733560" y="2211120"/>
              <a:ext cx="1752840" cy="805680"/>
            </a:xfrm>
            <a:prstGeom prst="curvedConnector5">
              <a:avLst>
                <a:gd name="adj1" fmla="val 50000"/>
                <a:gd name="adj2" fmla="val 49977"/>
                <a:gd name="adj3" fmla="val 50000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172200" y="3063960"/>
                <a:ext cx="1457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43800" y="3063960"/>
                <a:ext cx="819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ing a Sol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Choose a method to solve the linear system.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ing a Sol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Choose a method to solve the linear system.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8920" y="2003400"/>
                <a:ext cx="37432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867280" y="5376960"/>
                <a:ext cx="19623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607080" y="3406680"/>
                <a:ext cx="77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" name=""/>
          <p:cNvGrpSpPr/>
          <p:nvPr/>
        </p:nvGrpSpPr>
        <p:grpSpPr>
          <a:xfrm>
            <a:off x="4168800" y="1902600"/>
            <a:ext cx="784080" cy="581400"/>
            <a:chOff x="4168800" y="1902600"/>
            <a:chExt cx="784080" cy="581400"/>
          </a:xfrm>
        </p:grpSpPr>
        <p:sp>
          <p:nvSpPr>
            <p:cNvPr id="88" name=""/>
            <p:cNvSpPr/>
            <p:nvPr/>
          </p:nvSpPr>
          <p:spPr>
            <a:xfrm flipV="1">
              <a:off x="4168800" y="2394720"/>
              <a:ext cx="784080" cy="205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343400" y="190224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84080" y="3657600"/>
                <a:ext cx="35607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705720" y="4060800"/>
            <a:ext cx="7617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58000" y="403848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696080" y="4060800"/>
            <a:ext cx="6098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848720" y="403848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04000" y="4952880"/>
                <a:ext cx="503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261200" y="4495680"/>
                <a:ext cx="11890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3429000"/>
                <a:ext cx="671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76920" y="4038480"/>
                <a:ext cx="123660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15200" y="3429000"/>
                <a:ext cx="10954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47920" y="5486400"/>
                <a:ext cx="928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14600" y="5486400"/>
                <a:ext cx="938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33440" y="65851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213080" y="4465800"/>
                <a:ext cx="728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89480" y="2003400"/>
                <a:ext cx="731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867280" y="1981080"/>
                <a:ext cx="1189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064280" y="200340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168800" y="2612880"/>
            <a:ext cx="631800" cy="579600"/>
            <a:chOff x="4168800" y="2612880"/>
            <a:chExt cx="631800" cy="579600"/>
          </a:xfrm>
        </p:grpSpPr>
        <p:sp>
          <p:nvSpPr>
            <p:cNvPr id="109" name=""/>
            <p:cNvSpPr/>
            <p:nvPr/>
          </p:nvSpPr>
          <p:spPr>
            <a:xfrm>
              <a:off x="4168800" y="3146400"/>
              <a:ext cx="6318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314600" y="2612880"/>
              <a:ext cx="19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743200"/>
                <a:ext cx="3013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2" name=""/>
          <p:cNvCxnSpPr/>
          <p:nvPr/>
        </p:nvCxnSpPr>
        <p:spPr>
          <a:xfrm rot="5400000">
            <a:off x="141840" y="2850840"/>
            <a:ext cx="1837440" cy="554760"/>
          </a:xfrm>
          <a:prstGeom prst="curvedConnector5">
            <a:avLst>
              <a:gd name="adj1" fmla="val 6995"/>
              <a:gd name="adj2" fmla="val 79480"/>
              <a:gd name="adj3" fmla="val 699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62120" y="4343400"/>
                <a:ext cx="284616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191120"/>
                <a:ext cx="8413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15000" y="4114800"/>
                <a:ext cx="8413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137120" y="5943600"/>
                <a:ext cx="457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95680" y="5442120"/>
                <a:ext cx="114480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5334120" y="4266720"/>
            <a:ext cx="685800" cy="304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05520" y="3886200"/>
                <a:ext cx="496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6095880" y="4876920"/>
            <a:ext cx="457200" cy="380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84320" y="1981080"/>
                <a:ext cx="3787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284880" y="5610240"/>
                <a:ext cx="1984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943600" y="1828800"/>
                <a:ext cx="228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3080" y="2438280"/>
                <a:ext cx="730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696080" y="2438280"/>
                <a:ext cx="730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410080" y="306396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15000" y="321624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705720" y="36734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51760" y="3429000"/>
            <a:ext cx="5410800" cy="767520"/>
            <a:chOff x="1751760" y="3429000"/>
            <a:chExt cx="5410800" cy="767520"/>
          </a:xfrm>
        </p:grpSpPr>
        <p:cxnSp>
          <p:nvCxnSpPr>
            <p:cNvPr id="131" name=""/>
            <p:cNvCxnSpPr/>
            <p:nvPr/>
          </p:nvCxnSpPr>
          <p:spPr>
            <a:xfrm flipV="1" rot="16200000">
              <a:off x="4313880" y="866880"/>
              <a:ext cx="286920" cy="5411160"/>
            </a:xfrm>
            <a:prstGeom prst="curvedConnector5">
              <a:avLst>
                <a:gd name="adj1" fmla="val -70979"/>
                <a:gd name="adj2" fmla="val 50000"/>
                <a:gd name="adj3" fmla="val -7097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348360" y="373680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4920" y="3962520"/>
                <a:ext cx="47019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90720" y="3962520"/>
                <a:ext cx="14605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4648320"/>
                <a:ext cx="9586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98480" y="466416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6880" y="4648320"/>
                <a:ext cx="21891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22600" y="5121360"/>
                <a:ext cx="1047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09880" y="510552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85800" y="573084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38280" y="5715000"/>
                <a:ext cx="1003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51400" y="5708520"/>
                <a:ext cx="1139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347920" y="631836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514600" y="6218280"/>
                <a:ext cx="684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643200" y="631836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62520" y="6219720"/>
                <a:ext cx="68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04920" y="601992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5681520"/>
                <a:ext cx="1295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38680" y="3962520"/>
                <a:ext cx="304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10280" y="3886200"/>
                <a:ext cx="701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486400" y="4648320"/>
                <a:ext cx="2570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043840" y="4648320"/>
                <a:ext cx="11001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"/>
          <p:cNvGrpSpPr/>
          <p:nvPr/>
        </p:nvGrpSpPr>
        <p:grpSpPr>
          <a:xfrm>
            <a:off x="3733560" y="2133360"/>
            <a:ext cx="1904760" cy="710640"/>
            <a:chOff x="3733560" y="2133360"/>
            <a:chExt cx="1904760" cy="710640"/>
          </a:xfrm>
        </p:grpSpPr>
        <p:sp>
          <p:nvSpPr>
            <p:cNvPr id="154" name=""/>
            <p:cNvSpPr/>
            <p:nvPr/>
          </p:nvSpPr>
          <p:spPr>
            <a:xfrm>
              <a:off x="3885840" y="2384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V="1">
              <a:off x="3733560" y="2133360"/>
              <a:ext cx="1752840" cy="261360"/>
            </a:xfrm>
            <a:prstGeom prst="curvedConnector5">
              <a:avLst>
                <a:gd name="adj1" fmla="val 50000"/>
                <a:gd name="adj2" fmla="val 49931"/>
                <a:gd name="adj3" fmla="val 50000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330960" y="3063960"/>
                <a:ext cx="1138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43800" y="3063960"/>
                <a:ext cx="819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ing a Sol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Choose a method to solve the linear system.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st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143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 For a community bake sale, you purchased 12 pounds of sugar an 15 pounds of flour.  Your total cost wa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$7.95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  The next day, at the same prices you purchased 4 pounds of sugar and 10 pounds of flour.  Your total cost the second day wa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$3.9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 Find the cost per pound of sugar and flour purc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3070080"/>
                <a:ext cx="80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7200" y="3630600"/>
                <a:ext cx="609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98720" y="3633840"/>
                <a:ext cx="1263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347920" y="3618000"/>
                <a:ext cx="1461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81480" y="2895480"/>
                <a:ext cx="3743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952880" y="426708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943600" y="4267080"/>
                <a:ext cx="14112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400800" y="495288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248520" y="4876920"/>
                <a:ext cx="105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985160" y="492120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810560" y="4876920"/>
                <a:ext cx="105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781680" y="5334120"/>
                <a:ext cx="5511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86680" y="5349960"/>
                <a:ext cx="1554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162920" y="4267080"/>
                <a:ext cx="18255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H="1">
            <a:off x="5409720" y="2895480"/>
            <a:ext cx="685800" cy="152424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038480" y="2819160"/>
            <a:ext cx="990360" cy="579240"/>
            <a:chOff x="4038480" y="2819160"/>
            <a:chExt cx="990360" cy="579240"/>
          </a:xfrm>
        </p:grpSpPr>
        <p:sp>
          <p:nvSpPr>
            <p:cNvPr id="179" name=""/>
            <p:cNvSpPr/>
            <p:nvPr/>
          </p:nvSpPr>
          <p:spPr>
            <a:xfrm>
              <a:off x="4038480" y="335268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67080" y="2818800"/>
              <a:ext cx="304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76920" y="3581280"/>
                <a:ext cx="1277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7200" y="4114800"/>
                <a:ext cx="4191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4191120"/>
                <a:ext cx="990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5562720"/>
                <a:ext cx="1449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47920" y="5105520"/>
                <a:ext cx="1074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5105520"/>
                <a:ext cx="1074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09480" y="563868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28800" y="5562720"/>
                <a:ext cx="689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9" name=""/>
          <p:cNvCxnSpPr/>
          <p:nvPr/>
        </p:nvCxnSpPr>
        <p:spPr>
          <a:xfrm flipH="1" flipV="1" rot="10800000">
            <a:off x="456840" y="3915360"/>
            <a:ext cx="2160" cy="5641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809880" y="5954760"/>
            <a:ext cx="38102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$0.35 per lb for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$0.25 per lb for f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3000" y="3063960"/>
                <a:ext cx="129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62320" y="3048120"/>
                <a:ext cx="144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3" name=""/>
          <p:cNvGrpSpPr/>
          <p:nvPr/>
        </p:nvGrpSpPr>
        <p:grpSpPr>
          <a:xfrm>
            <a:off x="4038480" y="3506400"/>
            <a:ext cx="990720" cy="581400"/>
            <a:chOff x="4038480" y="3506400"/>
            <a:chExt cx="990720" cy="581400"/>
          </a:xfrm>
        </p:grpSpPr>
        <p:sp>
          <p:nvSpPr>
            <p:cNvPr id="194" name=""/>
            <p:cNvSpPr/>
            <p:nvPr/>
          </p:nvSpPr>
          <p:spPr>
            <a:xfrm>
              <a:off x="4038480" y="4038480"/>
              <a:ext cx="9907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267080" y="35060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019920" y="3581280"/>
                <a:ext cx="1504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338960" y="3581280"/>
                <a:ext cx="180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62120" y="4648320"/>
                <a:ext cx="3163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905120" y="6172200"/>
            <a:ext cx="609480" cy="144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33720" y="6172200"/>
                <a:ext cx="4125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971800" y="6172200"/>
            <a:ext cx="779400" cy="144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124080" y="6172200"/>
                <a:ext cx="41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8360" y="5989680"/>
                <a:ext cx="411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520" y="5943600"/>
                <a:ext cx="12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2-11-21T16:53:05Z</dcterms:modified>
  <cp:revision>129</cp:revision>
  <dc:subject/>
  <dc:title>PowerPoint Presentation</dc:title>
</cp:coreProperties>
</file>